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1143000" y="6172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roduction to Education: Choosing Your Teaching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Davis P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562720" y="61722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28600" y="6165720"/>
            <a:ext cx="914400" cy="540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534520" y="228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5210-02D4-4AA3-B0E4-AD15AFC952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ical and Legal Issues in U.S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ufman v. City of New York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liable for sports injury of student during supervise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ris v. Douglas County School District 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iable for field trip injury to young child in her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cha v. Field Museum of Natural History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held liable for injury resulting from a self-guided museum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han v. St. Peter’s Catholic School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playground injury because she left students 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v. Travelers Insurance Company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student injury because students were left alone in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lassroom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py may be made for scholarly research or use in teaching: book chapter, article, short story, poem, graphic representation o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not copy individual works and put them together as an ant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not be charged for the photocopying of copyrighted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Studen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ker v. Des Moines Community School District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of students to wear armbands to protest Vietnam War up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ss v. Lopez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that students must be given due process when threatened with suspension because school attendance is a property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aham v. 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l punishment may be administered without du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Jersey v. TLO (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search of purse was reasonable after student was found sm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l School District No. 403 v. Fraser (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right to censure lewd language to avoid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elwood School District v. Kuhlmeier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the right to censure controversial articles in school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acs v. Board of Education of Howard County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a “no hats” rule, all students must abide by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s v. Monroe County Board of Education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an obligation to prevent sexual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Religion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v. Yod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sh allowed to end formal education at eigh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v. Graham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ing Ten Commandments in public schools is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dahl v. Pontotoc County School District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of prayer in classrooms ruled again to be illegal and in violation of the separation of church an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Fe Independent School District v. Doe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rayer at school events violates the Fir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 Club v. Milford Central School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hristian group allowed to use schoo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choose to teach you make a commitment to a service profession. You commit to thoughtful and deliberate decision making, the courage to do what’s right for students, and the good sense to ask for advice and guidance when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an ethical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esponsibilitie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law impact the relationship between school and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g11_00100"/>
          <p:cNvPicPr/>
          <p:nvPr/>
        </p:nvPicPr>
        <p:blipFill>
          <a:blip r:embed="rId1"/>
          <a:stretch/>
        </p:blipFill>
        <p:spPr>
          <a:xfrm>
            <a:off x="1600200" y="2660760"/>
            <a:ext cx="7315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thical Teachers Should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teachers sh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de by the NEA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udents’ best interests ahead of other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often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lleagues and work collabor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intain a produc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y instruction to address stude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that affect schools, teachers, and students are based on a balance of rights and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sources of law directly impact the work of teachers: the U.S. Constitution, federal laws, state and local laws and policies, and cas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Law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ure11"/>
          <p:cNvPicPr/>
          <p:nvPr/>
        </p:nvPicPr>
        <p:blipFill>
          <a:blip r:embed="rId1"/>
          <a:stretch/>
        </p:blipFill>
        <p:spPr>
          <a:xfrm>
            <a:off x="1676520" y="1947960"/>
            <a:ext cx="7010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ment Leg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aching contract acts as an agreement between parties that states the rights and responsibilities of each as part of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indicates a continuing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process provides steps that a district must take to pursue charges against a teacher and/or dismi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 may negotiate contracts and working conditions through collective barg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Freedom of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ering v. Board of Education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publicly criticizing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fe v. Geanakos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assigning controversial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ville School District v. Cooper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using role-play to teach about rac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zek v. Cicero-Stickney Township HS (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showing R-rated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man v. Colleton County School District (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encouraging others to 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ray v. Pittsburgh Board of Education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continuing to use instructional strategy considered unorthodox by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s’ Personal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rison v. State Board of Education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because behavior doesn’t directly affect teaching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dif v. Quin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not following dr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pson v. Southwest District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when originally fired for unmarried co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kmann v. Board of Eduation (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eacher raising child keep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 v. Morgan County School District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using obscene language towar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vin v. City of Watervil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having sexual relations with 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27:42Z</dcterms:created>
  <dc:creator>r</dc:creator>
  <dc:description/>
  <dc:language>en-US</dc:language>
  <cp:lastModifiedBy>user</cp:lastModifiedBy>
  <dcterms:modified xsi:type="dcterms:W3CDTF">2010-03-03T20:40:58Z</dcterms:modified>
  <cp:revision>89</cp:revision>
  <dc:subject/>
  <dc:title>Chapter 1: Teachers</dc:title>
</cp:coreProperties>
</file>