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30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25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30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25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710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986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30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710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986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25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30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25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30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25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25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25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30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0"/>
          <p:cNvSpPr/>
          <p:nvPr/>
        </p:nvSpPr>
        <p:spPr>
          <a:xfrm>
            <a:off x="1143000" y="6172200"/>
            <a:ext cx="4952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troduction to Education: Choosing Your Teaching Pat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ara Davis Powe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1"/>
          <p:cNvSpPr/>
          <p:nvPr/>
        </p:nvSpPr>
        <p:spPr>
          <a:xfrm>
            <a:off x="5562720" y="6172200"/>
            <a:ext cx="3504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09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per Saddle River, New Jersey 07458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 rights reserved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2" descr=""/>
          <p:cNvPicPr/>
          <p:nvPr/>
        </p:nvPicPr>
        <p:blipFill>
          <a:blip r:embed="rId3"/>
          <a:stretch/>
        </p:blipFill>
        <p:spPr>
          <a:xfrm>
            <a:off x="228600" y="6165720"/>
            <a:ext cx="914400" cy="540000"/>
          </a:xfrm>
          <a:prstGeom prst="rect">
            <a:avLst/>
          </a:prstGeom>
          <a:ln w="0">
            <a:noFill/>
          </a:ln>
        </p:spPr>
      </p:pic>
      <p:sp>
        <p:nvSpPr>
          <p:cNvPr id="5" name="Text Box 7"/>
          <p:cNvSpPr/>
          <p:nvPr/>
        </p:nvSpPr>
        <p:spPr>
          <a:xfrm>
            <a:off x="8534520" y="22860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AECE4-B620-411E-BB1B-E5310AA035E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2590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thical and Legal Issues in U.S. Scho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Law: Teacher Li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3000" y="13716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aufman v. City of New York (196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acher not liable for sports injury of student during supervised g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ris v. Douglas County School District (196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acher liable for field trip injury to young child in her c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cha v. Field Museum of Natural History (197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acher not held liable for injury resulting from a self-guided museum to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eehan v. St. Peter’s Catholic School (197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acher found liable for playground injury because she left students al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on v. Travelers Insurance Company (197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acher found liable for student injury because students were left alone in classro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delines for Classroom Copy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copy may be made for scholarly research or use in teaching: book chapter, article, short story, poem, graphic representation or pi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copies (one per student) may be made with credit given to copyright holder if 3 tests are passed: brevity test, spontaneity test, time restrictions t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s cannot copy individual works and put them together as an antholo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cannot be charged for the photocopying of copyrighted wor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Law: Student R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30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nker v. Des Moines Community School District (196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s of students to wear armbands to protest Vietnam War uph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ss v. Lopez (197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rt ruled that students must be given due process when threatened with suspension because school attendance is a property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graham v. Wrigh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97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poral punishment may be administered without due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Jersey v. TLO (198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rt ruled search of purse was reasonable after student was found smo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thel School District No. 403 v. Fraser (198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hool has right to censure lewd language to avoid disru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zelwood School District v. Kuhlmeier (198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hool has the right to censure controversial articles in school pub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aacs v. Board of Education of Howard County (199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here is a “no hats” rule, all students must abide by 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vis v. Monroe County Board of Education (199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hool has an obligation to prevent sexual harass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Law: Religion in Sch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sconsin v. Yoder (197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ish allowed to end formal education at eighth 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one v. Graham (19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ting Ten Commandments in public schools is illeg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dahl v. Pontotoc County School District (199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actice of prayer in classrooms ruled again to be illegal and in violation of the separation of church and 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nta Fe Independent School District v. Doe (2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c prayer at school events violates the First Amend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od News Club v. Milford Central School (200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ent Christian group allowed to use school facil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ding Thou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you choose to teach you make a commitment to a service profession. You commit to thoughtful and deliberate decision making, the courage to do what’s right for students, and the good sense to ask for advice and guidance when nee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es it mean to be an ethical teach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laws affect schools, teachers, and stud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legal rights of teach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legal responsibilities of teach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legal rights of stud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law impact the relationship between school and relig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It Mean to Be a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hical Teac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fg11_00100"/>
          <p:cNvPicPr/>
          <p:nvPr/>
        </p:nvPicPr>
        <p:blipFill>
          <a:blip r:embed="rId1"/>
          <a:stretch/>
        </p:blipFill>
        <p:spPr>
          <a:xfrm>
            <a:off x="1600200" y="2660760"/>
            <a:ext cx="731520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Ethical Teachers Should 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hical teachers sha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de by the NEA Code of Et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t students’ best interests ahead of other consi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olve families often and positiv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lleagues and work collaborativ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nd maintain a productive learning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ersify instruction to address student dif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Laws Affect Schools, Teachers, and Stu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aws that affect schools, teachers, and students are based on a balance of rights and responsibil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 basic sources of law directly impact the work of teachers: the U.S. Constitution, federal laws, state and local laws and policies, and case la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hip of Laws and 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Figure11"/>
          <p:cNvPicPr/>
          <p:nvPr/>
        </p:nvPicPr>
        <p:blipFill>
          <a:blip r:embed="rId1"/>
          <a:stretch/>
        </p:blipFill>
        <p:spPr>
          <a:xfrm>
            <a:off x="1676520" y="1947960"/>
            <a:ext cx="7010280" cy="35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ment Lega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eaching contract acts as an agreement between parties that states the rights and responsibilities of each as part of employ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ure indicates a continuing contract stat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 process provides steps that a district must take to pursue charges against a teacher and/or dismiss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ons may negotiate contracts and working conditions through collective bargai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Law: Freedom of Ex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ickering v. Board of Education (196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er kept job after publicly criticizing school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efe v. Geanakos (196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er kept job after assigning controversial read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ingsville School District v. Cooper (198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er dismissed for using role-play to teach about racial re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rizek v. Cicero-Stickney Township HS (198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er dismissed for showing R-rated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oman v. Colleton County School District (199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er fired for encouraging others to 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rray v. Pittsburgh Board of Education (199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er fired for continuing to use instructional strategy considered unorthodox by school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Law: Teachers’ Personal L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rrison v. State Board of Education (196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er keeps job because behavior doesn’t directly affect teaching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dif v. Quinn (197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er dismissed for not following dress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ompson v. Southwest District (198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er keeps job when originally fired for unmarried cohab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ckmann v. Board of Eduation (198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teacher raising child keeps j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re v. Morgan County School District (198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er fired for using obscene language toward stu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vin v. City of Waterville (199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er fired for having sexual relations with a min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1:27:42Z</dcterms:created>
  <dc:creator>r</dc:creator>
  <dc:description/>
  <dc:language>en-US</dc:language>
  <cp:lastModifiedBy>user</cp:lastModifiedBy>
  <dcterms:modified xsi:type="dcterms:W3CDTF">2010-03-03T20:40:58Z</dcterms:modified>
  <cp:revision>89</cp:revision>
  <dc:subject/>
  <dc:title>Chapter 1: Teachers</dc:title>
</cp:coreProperties>
</file>