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E975D0-CB4F-4DA0-91A7-CD6E63466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5EA4FC-E013-4423-B685-5360A0CA50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269FDD-19B3-4C37-B135-B2F75E15DB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B96F13-09F1-40EA-851E-BDB6A77CD4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1D888A-7808-4245-975C-736A18AEE4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185742-73C6-4E17-9884-BAC13B900A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F14676-D37E-4AB8-9CC6-BFBD6DA64E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81023B-B7E0-494E-9CDB-85AF0F16C7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EEF88D-7716-4602-BA1B-BF03D1D897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E1AA5D-2630-42F4-A65E-AD9FAFCB4F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4743BB-2B8F-49A0-AB1A-ABA01C76FA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F565AB-81AD-48F5-A19C-53A19A8871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6479FE-584F-410A-9022-99C2109C46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0199F5-5ECB-4A49-932A-73371B3E60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ED1E84-CC79-47CC-8927-33C40829BC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4007AF-2934-41B1-AFC9-BDE660383C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40080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undations of American Education, 6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bb/Metha/Jorda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2010 Pearson Education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F384-65FD-40CC-9130-F20F39B8D10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bluecorner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4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2735640" y="5715000"/>
            <a:ext cx="339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Foundations of American Education, 6th Ed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bb, Metha, &amp; Jord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10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26" descr=""/>
          <p:cNvPicPr/>
          <p:nvPr/>
        </p:nvPicPr>
        <p:blipFill>
          <a:blip r:embed="rId3"/>
          <a:stretch/>
        </p:blipFill>
        <p:spPr>
          <a:xfrm>
            <a:off x="3809880" y="5257800"/>
            <a:ext cx="1130400" cy="419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19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APTER 3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s, Students, and the La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egal Responsibilities of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rt liability of school district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rt= civil wrong that leads to injury to another and for which a court will provide a remedy in the form of an action for dam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ability insurance is purchased in many school districts to protect employees against negligence defined b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ndard of care and du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imate cause – injury would not have occurred had it not been for the teacher’s con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ucational and professional malpractice  (diplomas given, improper educational placemen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Rights and Respons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Discip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ol officials have the authority and duty to establish reasonable rules of conduct including the ability to discipline students for vio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process is provided to students: to ensure that students are disciplined fairly and equitab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spension- exclusion from school for periods of 10 days or l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ulsions- more than 10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l punishment- more than ½ of states prohi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arch and Seiz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Amendment protection requiring “probable cause” before search is lessened in school situ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may take place if it passes a “reasonableness t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 or suspicion that a search will reveal evidence of violation of law or school r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pe of the search is reasonably related to the objective of the search and not excessively intru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hool property vs. personal prope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schools have turned to drug sniffing do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anket drug testing of students not supported in cour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ed results for drug testing of students involved in extra curricular activ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reedom of Expre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speech is a highly valued liberty, but this right must be balanced within public schools to ensure student safety and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nker v. DesMoines, 1969- landmark case in student expression (allowed for students to wear black armbands to protest the Vietnam War) because it did not cause “material and substantive disrupti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include the right to vulgar and offensive spee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zelwood School District v. Kuhlmeier awarded discretion to school authorities in censoring school-sponsored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ts are split as to considering dress as a for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schools have enacted dress codes that restrict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wing number of schools have adopted school uni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have the right to wear prescribed religious ga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xual Harassment of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are most often victims of hostile environment sexual hara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ostile environment limits a student’s ability to benefit from, or participate in educational programs or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whelming majority is student-to-student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 may be liable for sexual harassment even in student-to-student cases if school responds with deliberate indif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Records and Priva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 Educational Rights and Privacy Act (FERPA) of 1974 provides protection to parents and students against unauthorized access to students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guarantees rights to access to own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ally identifiable information from records is not to be released without permission of parent or eligible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 certain conditions, records can be obtained by school officials, accrediting bodies, state or federal agenci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s or students can request that inaccurate information be amend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view of 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s and Conditions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itutional Right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Responsibilitie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erview of 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s and Conditions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itutional Right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Responsibilitie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ms and Conditions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positions in teaching require a certificate or lice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ificate or license only makes person elig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es have established certification requirem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tizenship and Residency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ts have upheld citizenship and residency requirements as a condition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 and Physical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states and school boards have adopted health and physical requirements for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, however, cannot discriminate against teachers with disabilities as long as it does not interfere with ability to t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ms and Conditions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ment Con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contain basic elements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fer and accep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ly competent pa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ation (compens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ubject ma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ement in the form required by l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to maintain permanent and qualified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granted after a probationary period of three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may still be dismissed for disciplinary reasons, declining enrollment, financial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 Dismis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nds for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visions for dismissing a teacher “for cause” varies among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frequently cited are immorality, incompetency, and insub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 board must provide evidence and give teacher du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tors for determin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mmoral conduc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cause fo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and maturity of the stud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lihood that conduct of teacher will have an adverse effect on other students or teac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gree of anticipated ad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imity of the con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nuating circumstances of ev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hood that conduct would be repea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rlying mot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illing effect on rights of teac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 Dismis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nds for dismis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 categories for determin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compet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cause for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dequate te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knowledge of su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asonable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work effectively with colleagues, supervisors, or par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or mental in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lect of du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bord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istent, willful, deliberate violation of rule or direct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be careful not to infringe on teachers’ constitutional 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titutional Rights of Teach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ights of teachers have recently expanded to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 du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 to associ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ademic freedo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 the purpose and educational relevance of the activity, film, literature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appropriaten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k yourself: “Am I willing to fight to keep this activity in, film or publication in the curriculum? Does its impact on learning outweigh the controversy it may generat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onstitutional Rights of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 of Privacy:  Employee sear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from employment discrimination and sexual hara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al opportunity and affirmative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egal Responsibilities of Teach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rting child abuse and negl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states have enacted statutes requiring teachers to report actual or suspected child abuse and neglect immediately (physical, mental, sexual, neglect, 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ing copy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r use doctrine allows for nonprofit reproduction and use of materials for classroom use without permission under certain cond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copy may be made for scholarly research or use in teaching: book chapter, article, short story, poem, graphic representation or pictu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opies (one per student) may be made with credit given to copyright holder if 3 tests are passed: brevity test, spontaneity test, time restrictions te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ers cannot copy individual works and put them together as an antholog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cannot be charged for the photocopying of copyrighted wor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2-24T20:24:11Z</dcterms:modified>
  <cp:revision>93</cp:revision>
  <dc:subject/>
  <dc:title>AutoCAD Architecture 2008: Part I: Getting Started</dc:title>
</cp:coreProperties>
</file>