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6DE717-A566-4831-952D-D8A678640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CD60FE-1C34-4A27-9157-9C8B8B5D86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C24ED6-1E9A-46D2-AD3C-5D7104CDEF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6A113E-0183-44C2-B13C-2AE4A1CC6F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3C3E36-6270-416C-892B-6D35A8CB0B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2A1F7D-3481-4D92-B1E2-83FD37EBE0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CEB325-17E7-477C-B2D8-D84DC47EBA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90965B-8995-4610-AE6B-8FB8C22A3D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27BEBE-29AF-4B5C-89C4-6EFB1DFD49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4C13AA-8C39-4492-AD3D-5B0191BEB0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E2157C-F44F-447B-8510-01956FE284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51FDE2-3340-4F65-B89D-92A5627A83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CAB2D4-7A3B-4BF7-84BC-5BB8A1AB02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C7DEF5-BD16-4C44-BA4D-1A0C2A4F2C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95FF81-C8FA-42C0-B005-CD36BB391E2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9804E4-BFBF-4B55-A251-37EFBF62FF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4008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undations of American Education, 6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bb/Metha/Jorda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0 Pearson Education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9D1-3D43-43A9-BC26-D446907848DA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4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2735640" y="5715000"/>
            <a:ext cx="339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oundations of American Education, 6th Ed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b, Metha, &amp; Jord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10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26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PTER 3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s, Students, and the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rt liability of school district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rt= civil wrong that leads to injury to another and for which a court will provide a remedy in the form of an action for dam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ability insurance is purchased in many school districts to protect employees against negligence defin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of care and du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ate cause – injury would not have occurred had it not been for the teacher’s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ucational and professional malpractice  (diplomas given, improper educational placemen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igh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officials have the authority and duty to establish reasonable rules of conduct including the ability to discipline students for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process is provided to students: to ensure that students are disciplined fairly and equitab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pension- exclusion from school for periods of 10 days or 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ulsions- more than 1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l punishment- more than ½ of states prohi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arch and Seiz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Amendment protection requiring “probable cause” before search is lessened in schoo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may take place if it passes a “reasonableness t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or suspicion that a search will reveal evidence of violation of law or school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 of the search is reasonably related to the objective of the search and not excessively intru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hool property vs. personal prope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chools have turned to drug sniffing d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nket drug testing of students not supported in cou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results for drug testing of students involved in extra curricular activ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eedom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speech is a highly valued liberty, but this right must be balanced within public schools to ensure student safety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ker v. DesMoines, 1969- landmark case in student expression (allowed for students to wear black armbands to protest the Vietnam War) because it did not cause “material and substantive disrup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include the right to vulgar and offensive spe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elwood School District v. Kuhlmeier awarded discretion to school authorities in censoring school-sponsored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are split as to considering dress as a for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chools have enacted dress codes that restrict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wing number of schools have adopted school uni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have the right to wear prescribed religious ga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xual Harassment of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most often victims of hostile environment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ostile environment limits a student’s ability to benefit from, or participate in educational programs o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whelming majority is student-to-studen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may be liable for sexual harassment even in student-to-student cases if school responds with deliberate in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ecords and Priva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 Educational Rights and Privacy Act (FERPA) of 1974 provides protection to parents and students against unauthorized access to students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guarantees rights to access to own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ly identifiable information from records is not to be released without permission of parent or eligible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ertain conditions, records can be obtained by school officials, accrediting bodies, state or federal agenci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s or students can request that inaccurate information be am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positions in teaching require a certificate or lic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e or license only makes person eli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established certific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ship and Residenc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have upheld citizenship and residency requirements as a condition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and Physic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tates and school boards have adopted health and physical requirements for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, however, cannot discriminate against teachers with disabilities as long as it does not interfere with ability to t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ment Con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tain basic element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er and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ly competent pa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ation (compens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ement in the form required by l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to maintain permanent and qualified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granted after a probationary period of three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may still be dismissed for disciplinary reasons, declining enrollment, financial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visions for dismissing a teacher “for cause” varies among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requently cited are immorality, incompetency, and insub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board must provide evidence and give teacher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for determi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moral con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cause fo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nd maturity of the stud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that conduct of teacher will have an adverse effect on other students or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ree of anticipated ad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ity of the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uating circumstances of 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hood that conduct would be repe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lying mot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ling effect on rights of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 categories for determin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ompet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cause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dequate te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knowledge of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asonable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work effectively with colleagues, supervisors, or pa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r mental in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lect of du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bord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istent, willful, deliberate violation of rule or direc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areful not to infringe on teachers’ 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ights of teachers have recently expanded to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to assoc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freed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he purpose and educational relevance of the activity, film, literature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ppropriaten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yourself: “Am I willing to fight to keep this activity in, film or publication in the curriculum? Does its impact on learning outweigh the controversy it may genera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of Privacy:  Employee sear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from employment discrimination and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 and affirmative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 child abuse and neg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tates have enacted statutes requiring teachers to report actual or suspected child abuse and neglect immediately (physical, mental, sexual, neglect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ing copy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use doctrine allows for nonprofit reproduction and use of materials for classroom use without permission under certain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py may be made for scholarly research or use in teaching: book chapter, article, short story, poem, graphic representation or pi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s cannot copy individual works and put them together as an antholog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cannot be charged for the photocopying of copyrighted wor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24T20:24:11Z</dcterms:modified>
  <cp:revision>93</cp:revision>
  <dc:subject/>
  <dc:title>AutoCAD Architecture 2008: Part I: Getting Started</dc:title>
</cp:coreProperties>
</file>