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DB0FC2-BC67-4DDB-ACC6-33086FB86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71FCB6-EC43-4BA6-856F-B0DA311C0E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291DB3-516C-4872-9D94-0CBB8BD152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BA37F9-D61F-4590-ADC1-B1CDAF1ACA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71241F-0997-4C17-ADD5-82E912F038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BA3D32-7BFF-4CB7-8878-2EC4F8272C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BF0651-B34B-473F-BC54-B9C70E7427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57FE5F-751C-46EB-9A5A-3D078A1595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2CFA02-6FE9-4292-B571-1F7723F478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7A4FC2-90D9-4480-AB7A-90ECA41126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984CE7-7A08-45E6-9E77-8FDE38AB13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17ABE8-F982-4B56-90A0-0F6EC421E9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1B620A-B766-4A2C-9132-5B70B47DA3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F9E569-20D2-4F88-A29C-137ED0ABAA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445B1A-5BE2-4B74-99BC-79B7EE92BB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394E05-A7E0-4E4B-805E-AAE702C58F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40080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undations of American Education, 6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bb/Metha/Jorda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0 Pearson Education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A5D8-66E0-4643-B2EB-105F48129D6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4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2735640" y="5715000"/>
            <a:ext cx="339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oundations of American Education, 6th Ed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bb, Metha, &amp; Jord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10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26" descr=""/>
          <p:cNvPicPr/>
          <p:nvPr/>
        </p:nvPicPr>
        <p:blipFill>
          <a:blip r:embed="rId3"/>
          <a:stretch/>
        </p:blipFill>
        <p:spPr>
          <a:xfrm>
            <a:off x="3809880" y="525780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APTER 3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s, Students, and the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rt liability of school district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rt= civil wrong that leads to injury to another and for which a court will provide a remedy in the form of an action for dam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ability insurance is purchased in many school districts to protect employees against negligence defin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ndard of care and du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ate cause – injury would not have occurred had it not been for the teacher’s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ucational and professional malpractice  (diplomas given, improper educational placemen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ights and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Discip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ol officials have the authority and duty to establish reasonable rules of conduct including the ability to discipline students for vio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process is provided to students: to ensure that students are disciplined fairly and equitab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spension- exclusion from school for periods of 10 days or l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ulsions- more than 1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l punishment- more than ½ of states prohi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arch and Seiz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Amendment protection requiring “probable cause” before search is lessened in school sit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may take place if it passes a “reasonableness t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 or suspicion that a search will reveal evidence of violation of law or school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e of the search is reasonably related to the objective of the search and not excessively intru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hool property vs. personal prope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schools have turned to drug sniffing d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anket drug testing of students not supported in cour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ed results for drug testing of students involved in extra curricular activ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eedom of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speech is a highly valued liberty, but this right must be balanced within public schools to ensure student safety and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ker v. DesMoines, 1969- landmark case in student expression (allowed for students to wear black armbands to protest the Vietnam War) because it did not cause “material and substantive disrupti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include the right to vulgar and offensive spee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zelwood School District v. Kuhlmeier awarded discretion to school authorities in censoring school-sponsored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are split as to considering dress as a for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schools have enacted dress codes that restrict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wing number of schools have adopted school uni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have the right to wear prescribed religious ga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xual Harassment of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re most often victims of hostile environment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ostile environment limits a student’s ability to benefit from, or participate in educational programs or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whelming majority is student-to-student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 may be liable for sexual harassment even in student-to-student cases if school responds with deliberate indif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ecords and Priva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 Educational Rights and Privacy Act (FERPA) of 1974 provides protection to parents and students against unauthorized access to students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guarantees rights to access to own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ly identifiable information from records is not to be released without permission of parent or eligible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ertain conditions, records can be obtained by school officials, accrediting bodies, state or federal agenci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s or students can request that inaccurate information be amend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positions in teaching require a certificate or lice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ificate or license only makes person elig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es have established certification require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izenship and Residenc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have upheld citizenship and residency requirements as a condition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and Physical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states and school boards have adopted health and physical requirements for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, however, cannot discriminate against teachers with disabilities as long as it does not interfere with ability to t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ment Con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contain basic elements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er and accep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ly competent pa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ation (compens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ubject ma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ement in the form required by l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to maintain permanent and qualified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granted after a probationary period of three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may still be dismissed for disciplinary reasons, declining enrollment, financial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visions for dismissing a teacher “for cause” varies among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requently cited are immorality, incompetency, and insub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 board must provide evidence and give teacher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ors for determi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mmoral condu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cause fo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nd maturity of the stud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lihood that conduct of teacher will have an adverse effect on other students or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gree of anticipated ad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ity of the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uating circumstances of ev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hood that conduct would be repe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rlying mot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illing effect on rights of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 categories for determin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ompet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cause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dequate te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knowledge of su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asonable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work effectively with colleagues, supervisors, or par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or mental in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lect of du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bord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istent, willful, deliberate violation of rule or direct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careful not to infringe on teachers’ constitutional 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ights of teachers have recently expanded to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 to associ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c freed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the purpose and educational relevance of the activity, film, literature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ppropriaten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k yourself: “Am I willing to fight to keep this activity in, film or publication in the curriculum? Does its impact on learning outweigh the controversy it may generat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 of Privacy:  Employee sear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from employment discrimination and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opportunity and affirmative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ing child abuse and neg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states have enacted statutes requiring teachers to report actual or suspected child abuse and neglect immediately (physical, mental, sexual, neglect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ing copy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r use doctrine allows for nonprofit reproduction and use of materials for classroom use without permission under certain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opy may be made for scholarly research or use in teaching: book chapter, article, short story, poem, graphic representation or pictu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ers cannot copy individual works and put them together as an antholog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cannot be charged for the photocopying of copyrighted wor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2-24T20:24:11Z</dcterms:modified>
  <cp:revision>93</cp:revision>
  <dc:subject/>
  <dc:title>AutoCAD Architecture 2008: Part I: Getting Started</dc:title>
</cp:coreProperties>
</file>