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0"/>
          <p:cNvSpPr/>
          <p:nvPr/>
        </p:nvSpPr>
        <p:spPr>
          <a:xfrm>
            <a:off x="1143000" y="6172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Introduction to Education: Choosing Your Teaching Pa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ra Davis Po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5562720" y="617220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2009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per Saddle River, New Jersey 07458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3"/>
          <a:stretch/>
        </p:blipFill>
        <p:spPr>
          <a:xfrm>
            <a:off x="228600" y="6165720"/>
            <a:ext cx="914400" cy="540000"/>
          </a:xfrm>
          <a:prstGeom prst="rect">
            <a:avLst/>
          </a:prstGeom>
          <a:ln w="0">
            <a:noFill/>
          </a:ln>
        </p:spPr>
      </p:pic>
      <p:sp>
        <p:nvSpPr>
          <p:cNvPr id="5" name="Text Box 7"/>
          <p:cNvSpPr/>
          <p:nvPr/>
        </p:nvSpPr>
        <p:spPr>
          <a:xfrm>
            <a:off x="8534520" y="228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EAB9-FA64-40AB-93B0-39698889AD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ical and Legal Issues in U.S. Sch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ufman v. City of New York (19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liable for sports injury of student during supervised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ris v. Douglas County School District (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liable for field trip injury to young child in her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cha v. Field Museum of Natural History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not held liable for injury resulting from a self-guided museum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ehan v. St. Peter’s Catholic School (19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playground injury because she left students al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 v. Travelers Insurance Company (19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acher found liable for student injury because students were left alone in class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 for Classroom Cop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opy may be made for scholarly research or use in teaching: book chapter, article, short story, poem, graphic representation or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opies (one per student) may be made with credit given to copyright holder if 3 tests are passed: brevity test, spontaneity test, time restrictions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cannot copy individual works and put them together as an anth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cannot be charged for the photocopying of copyrighted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Student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nker v. Des Moines Community School District 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s of students to wear armbands to protest Vietnam War uph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ss v. Lopez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that students must be given due process when threatened with suspension because school attendance is a property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graham v. Wr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l punishment may be administered without du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Jersey v. TLO (19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rt ruled search of purse was reasonable after student was found smo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hel School District No. 403 v. Fraser (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right to censure lewd language to avoid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zelwood School District v. Kuhlmeier (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the right to censure controversial articles in school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aacs v. Board of Education of Howard County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re is a “no hats” rule, all students must abide by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s v. Monroe County Board of Education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has an obligation to prevent sexual hara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Religion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sconsin v. Yoder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ish allowed to end formal education at eighth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ne v. Graham (19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ing Ten Commandments in public schools is ille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dahl v. Pontotoc County School District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ctice of prayer in classrooms ruled again to be illegal and in violation of the separation of church and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ta Fe Independent School District v. Doe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prayer at school events violates the First Amend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d News Club v. Milford Central School (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 Christian group allowed to use school fac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ding Thou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choose to teach you make a commitment to a service profession. You commit to thoughtful and deliberate decision making, the courage to do what’s right for students, and the good sense to ask for advice and guidance when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be an ethical teac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esponsibilities of teac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legal rights of stud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law impact the relationship between school and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ical Teac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g11_00100"/>
          <p:cNvPicPr/>
          <p:nvPr/>
        </p:nvPicPr>
        <p:blipFill>
          <a:blip r:embed="rId1"/>
          <a:stretch/>
        </p:blipFill>
        <p:spPr>
          <a:xfrm>
            <a:off x="1600200" y="2660760"/>
            <a:ext cx="7315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Ethical Teachers Should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ical teachers sh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de by the NEA Code of Et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students’ best interests ahead of other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 families often and posi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lleagues and work collabor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d maintain a productive learn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fy instruction to address stude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Laws Affect Schools, Teachers, and Stu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s that affect schools, teachers, and students are based on a balance of rights and responsi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basic sources of law directly impact the work of teachers: the U.S. Constitution, federal laws, state and local laws and policies, and case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Law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ure11"/>
          <p:cNvPicPr/>
          <p:nvPr/>
        </p:nvPicPr>
        <p:blipFill>
          <a:blip r:embed="rId1"/>
          <a:stretch/>
        </p:blipFill>
        <p:spPr>
          <a:xfrm>
            <a:off x="1676520" y="1947960"/>
            <a:ext cx="7010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ment Leg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aching contract acts as an agreement between parties that states the rights and responsibilities of each as part of employ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indicates a continuing contract sta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process provides steps that a district must take to pursue charges against a teacher and/or dismis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s may negotiate contracts and working conditions through collective barg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Freedom of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ckering v. Board of Education (19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publicly criticizing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fe v. Geanakos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pt job after assigning controversial rea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gsville School District v. Cooper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using role-play to teach about raci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izek v. Cicero-Stickney Township HS (19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showing R-rated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oman v. Colleton County School District (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encouraging others to 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rray v. Pittsburgh Board of Education (199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continuing to use instructional strategy considered unorthodox by scho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Law: Teachers’ Personal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rison v. State Board of Education (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because behavior doesn’t directly affect teaching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dif v. Quinn (19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dismissed for not following dre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pson v. Southwest District (19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keeps job when originally fired for unmarried co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kmann v. Board of Eduation (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teacher raising child keeps 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e v. Morgan County School District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using obscene language towar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vin v. City of Waterville (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fired for having sexual relations with a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1:27:42Z</dcterms:created>
  <dc:creator>r</dc:creator>
  <dc:description/>
  <dc:language>en-US</dc:language>
  <cp:lastModifiedBy>user</cp:lastModifiedBy>
  <dcterms:modified xsi:type="dcterms:W3CDTF">2010-03-03T20:40:58Z</dcterms:modified>
  <cp:revision>89</cp:revision>
  <dc:subject/>
  <dc:title>Chapter 1: Teachers</dc:title>
</cp:coreProperties>
</file>