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6DD623-3332-4C64-90D8-7CD5C5F29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53779A-EC56-4409-839C-8B7B92963F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5848DF-B09E-41FE-AB02-5EDB869F12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4507C4-54A4-417E-B2CE-542C995A2F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BD802B-EAF6-4802-863B-71B57B6959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8F06A6-A6FB-4524-8826-85C7705843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DBA7AD-013F-4E64-A642-85D20F18E4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31457B-9FBB-4F5D-823F-6E7ACCF6F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82187C-27EA-46B8-A197-5977EE67D57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EBA2C0-43BE-44BF-BE71-A12177941B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2B3CBD-49F4-4343-AD29-54EFE07A58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021FB1-AE7F-49CB-9024-5B7824BDA4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503FF3-1188-4000-9E63-DAD28DC9A1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4FAF61-E8AA-4543-8A3D-3F18FF7AAA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82DC65-5042-4C6C-9A17-B130F592CE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92EC44-C0E5-4B56-80C8-8F62033207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27"/>
          <p:cNvSpPr/>
          <p:nvPr/>
        </p:nvSpPr>
        <p:spPr>
          <a:xfrm>
            <a:off x="533520" y="6400800"/>
            <a:ext cx="289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oundations of American Education, 6</a:t>
            </a:r>
            <a:r>
              <a:rPr b="0" i="1" lang="en-US" sz="1000" spc="-1" strike="noStrike" baseline="30000">
                <a:solidFill>
                  <a:srgbClr val="000000"/>
                </a:solidFill>
                <a:latin typeface="Tahoma"/>
                <a:ea typeface="ＭＳ Ｐゴシック"/>
              </a:rPr>
              <a:t>th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ebb/Metha/Jorda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28"/>
          <p:cNvSpPr/>
          <p:nvPr/>
        </p:nvSpPr>
        <p:spPr>
          <a:xfrm>
            <a:off x="5257800" y="6384960"/>
            <a:ext cx="380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2010 Pearson Education, Inc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29"/>
          <p:cNvSpPr/>
          <p:nvPr/>
        </p:nvSpPr>
        <p:spPr>
          <a:xfrm>
            <a:off x="43434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E8AF-F6C8-4108-89EB-8DE63F5A8FC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Picture 30" descr="bluegradientbar"/>
          <p:cNvPicPr/>
          <p:nvPr/>
        </p:nvPicPr>
        <p:blipFill>
          <a:blip r:embed="rId2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bluecorner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4"/>
          <p:cNvSpPr/>
          <p:nvPr/>
        </p:nvSpPr>
        <p:spPr>
          <a:xfrm>
            <a:off x="2743200" y="59436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25"/>
          <p:cNvSpPr/>
          <p:nvPr/>
        </p:nvSpPr>
        <p:spPr>
          <a:xfrm>
            <a:off x="2735640" y="5715000"/>
            <a:ext cx="339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Foundations of American Education, 6th Edi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bb, Metha, &amp; Jorda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© 2010 Pearson Education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26" descr=""/>
          <p:cNvPicPr/>
          <p:nvPr/>
        </p:nvPicPr>
        <p:blipFill>
          <a:blip r:embed="rId3"/>
          <a:stretch/>
        </p:blipFill>
        <p:spPr>
          <a:xfrm>
            <a:off x="3809880" y="5257800"/>
            <a:ext cx="1130400" cy="41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1952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HAPTER 3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s, Students, and the La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rt liability of school district employe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rt= civil wrong that leads to injury to another and for which a court will provide a remedy in the form of an action for dam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ability insurance is purchased in many school districts to protect employees against negligence defined b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ndard of care and du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ate cause – injury would not have occurred had it not been for the teacher’s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ucational and professional malpractice  (diplomas given, improper educational placemen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ights and Responsi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Discip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officials have the authority and duty to establish reasonable rules of conduct including the ability to discipline students for vio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process is provided to students: to ensure that students are disciplined fairly and equitabl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spension- exclusion from school for periods of 10 days or l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ulsions- more than 10 d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l punishment- more than ½ of states prohi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arch and Seiz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Amendment protection requiring “probable cause” before search is lessened in school situ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may take place if it passes a “reasonableness t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 or suspicion that a search will reveal evidence of violation of law or school r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ope of the search is reasonably related to the objective of the search and not excessively intru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hool property vs. personal prope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schools have turned to drug sniffing do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nket drug testing of students not supported in cou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ed results for drug testing of students involved in extra curricular activ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reedom of Expre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 speech is a highly valued liberty, but this right must be balanced within public schools to ensure student safety and lear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nker v. DesMoines, 1969- landmark case in student expression (allowed for students to wear black armbands to protest the Vietnam War) because it did not cause “material and substantive disruption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include the right to vulgar and offensive spee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zelwood School District v. Kuhlmeier awarded discretion to school authorities in censoring school-sponsored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are split as to considering dress as a for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schools have enacted dress codes that restrict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wing number of schools have adopted school uni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have the right to wear prescribed religious ga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exual Harassment of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re most often victims of hostile environment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ostile environment limits a student’s ability to benefit from, or participate in educational programs or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whelming majority is student-to-student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may be liable for sexual harassment even in student-to-student cases if school responds with deliberate indiffer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990720"/>
            <a:ext cx="77932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tudent Records and Priva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y Educational Rights and Privacy Act (FERPA) of 1974 provides protection to parents and students against unauthorized access to students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guarantees rights to access to own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ly identifiable information from records is not to be released without permission of parent or eligible stud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 certain conditions, records can be obtained by school officials, accrediting bodies, state or federal agenci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s or students can request that inaccurate information be amend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erview of Chapter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s and Conditions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itutional Right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gal Responsibilities of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 Rights and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and seiz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Pub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Appea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xual harassment of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 records and priv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positions in teaching require a certificate or licen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ificate or license only makes person elig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es have established certification requireme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izenship and Residenc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rts have upheld citizenship and residency requirements as a condition of 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and Physical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states and school boards have adopted health and physical requirements for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, however, cannot discriminate against teachers with disabilities as long as it does not interfere with ability to t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rms and Conditions of 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ment Con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contain basic elements 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er and accep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ly competent pa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ation (compens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ubject mat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reement in the form required by l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to maintain permanent and qualified teac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granted after a probationary period of three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acher may still be dismissed for disciplinary reasons, declining enrollment, financial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visions for dismissing a teacher “for cause” varies among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frequently cited are immorality, incompetency, and insub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 board must provide evidence and give teacher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tors for determining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mmoral condu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 cause for dismiss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nd maturity of the stud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lihood that conduct of teacher will have an adverse effect on other students or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gree of anticipated ad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imity of the condu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uating circumstances of ev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kehood that conduct would be repeat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rlying mot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ling effect on rights of teach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eacher Dismis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nds for dismis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 categories for determin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compet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cause for dismiss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adequate te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knowledge of sub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asonable discip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work effectively with colleagues, supervisors, or par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or mental in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glect of du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bord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istent, willful, deliberate violation of rule or direct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st be careful not to infringe on teachers’ constitutional 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ights of teachers have recently expanded to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 due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of expre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 to associa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freedo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der the purpose and educational relevance of the activity, film, literature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ge appropriaten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k yourself: “Am I willing to fight to keep this activity in, film or publication in the curriculum? Does its impact on learning outweigh the controversy it may generate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onstitutional Rights of Teach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s of Privacy:  Employee sear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dom from employment discrimination and sexual harass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al opportunity and affirmative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Legal Responsibilities of Teach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orting child abuse and negl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states have enacted statutes requiring teachers to report actual or suspected child abuse and neglect immediately (physical, mental, sexual, neglect, etc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ing copyrigh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r use doctrine allows for nonprofit reproduction and use of materials for classroom use without permission under certain condi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le copy may be made for scholarly research or use in teaching: book chapter, article, short story, poem, graphic representation or pictu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chers cannot copy individual works and put them together as an antholog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cannot be charged for the photocopying of copyrighted wor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2-24T20:24:11Z</dcterms:modified>
  <cp:revision>93</cp:revision>
  <dc:subject/>
  <dc:title>AutoCAD Architecture 2008: Part I: Getting Started</dc:title>
</cp:coreProperties>
</file>