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1F44-2273-44E7-8E04-A93F7E034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4E4B-4428-4D4D-8AE7-ECF4929B9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6ADD-61CB-474B-8886-4B32A90C0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8D2B-4520-4B75-9901-3DEEDDAB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7F2F-71E3-412E-A82D-EDA1CBE22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D76D-D5A2-4291-8C73-15EE38C86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463A-778F-4FC2-9E4A-45B096EA6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278A-FADB-4016-AB2E-65550ADFE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8E74-1094-40B1-ABD4-5598794F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6BA5-B88C-41DB-A47B-A22F9BD0B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51D-E2D5-4059-8292-19F33112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C9B-216E-4E5C-BB7E-5EF7168A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3FC-33D8-462B-91D5-3EC35B16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127-A23A-4411-A611-23A7D124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1E1-3F15-4AA1-9A54-F80EA552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E62-D7B3-4F32-B5AA-956A2BC7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B8A-FD6B-4557-ACEF-1C1F1B66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E02-DEFF-477D-B7FE-F3572097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51C-BFF6-4F7E-ADFA-AAA94F11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668-B14A-4A4E-AC8E-91151B21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B85-5D18-4284-A82E-1A463CF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200-40C9-449C-A87E-536DB5CA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4F83-E5F4-41BE-9536-803E398F5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pa.org/journals/webref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Fewer than 40 words - text enclosed in double quotation ma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Quota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Miele (1993)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found that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“T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he placebo effect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which had been verified in previous studies, disappeared when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[only the first group’s]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behaviors were studied in this manner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” (p.276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Quota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She stated,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“T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he ‘placebo effect’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disappeared when behaviors were studied in this manner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(Miele, 1993, p.276),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but she did not clarify which behaviors were stu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More than 40 words - freestanding block (indent about 1/2 in or 5 spaces), double-spa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Quotation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Miele (1993)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found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The “placebo effect,” which had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verified in previous studies, disappe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when behaviors were studied in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manner. Furthermore, the behaviors </a:t>
            </a: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never exhibited again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[italics added],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when reel drugs were administered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...       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(p.27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Personal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No recoverable data, therefore are not included in the reference l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Quota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According to Ms. Lewis, literacy instruction in her classroom is incidental (personal communication, October 12, 2007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Referenc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Alphabetiz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Same  author entries arranged by year (from the earliest to the la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One-author entries precede multiple-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Double-sp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Entries should have a hanging i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ite a Journal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f989"/>
                </a:solidFill>
                <a:uFillTx/>
                <a:latin typeface="Arial"/>
              </a:rPr>
              <a:t>Journal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Kernis, M.H., Cornell, D.P., &amp; Harlow, T. (1993). There’s more to self-esteem than  whether it is high or low: The importance of stability of self-esteem. </a:t>
            </a:r>
            <a:r>
              <a:rPr b="0" i="1" lang="en-US" sz="3200" spc="-1" strike="noStrike">
                <a:solidFill>
                  <a:srgbClr val="eef989"/>
                </a:solidFill>
                <a:latin typeface="Arial"/>
              </a:rPr>
              <a:t>Journal of Personality and Social Psychology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, 65 (4), 1190-12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ite am Edited Book or Chapter in an Edited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f989"/>
                </a:solidFill>
                <a:uFillTx/>
                <a:latin typeface="Arial"/>
              </a:rPr>
              <a:t>Edited Book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Robinson, D.N. (Ed.). (1992). Social discourse and moral judgment. San Diego, CA: Academic P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f989"/>
                </a:solidFill>
                <a:uFillTx/>
                <a:latin typeface="Arial"/>
              </a:rPr>
              <a:t>Chapter in an edited 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O’Neil, J.M., &amp; Egan, J. (1992). Men’s and women’s gender role journeys: Metaphor for healing, transition, and transformation. In D.N. Robinson (Ed.), </a:t>
            </a:r>
            <a:r>
              <a:rPr b="0" i="1" lang="en-US" sz="2800" spc="-1" strike="noStrike">
                <a:solidFill>
                  <a:srgbClr val="eef989"/>
                </a:solidFill>
                <a:latin typeface="Arial"/>
              </a:rPr>
              <a:t>Social discourse and moral judgment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(pp.107-123). San Diego, CA: Academic P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ite a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f989"/>
                </a:solidFill>
                <a:uFillTx/>
                <a:latin typeface="Arial"/>
              </a:rPr>
              <a:t>Book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Brown, H. D. (2007). </a:t>
            </a:r>
            <a:r>
              <a:rPr b="0" i="1" lang="en-US" sz="3200" spc="-1" strike="noStrike">
                <a:solidFill>
                  <a:srgbClr val="eef989"/>
                </a:solidFill>
                <a:latin typeface="Arial"/>
              </a:rPr>
              <a:t>Principles of language learning and teaching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(5th ed.). New York: Pearson Long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ite Electronic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Electronic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Electronic reference formats recommended by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American Psychological Association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. (200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October 12). Retrieved October 23, 2000,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pa.org/journals/webref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Eid, M., &amp; Langeheine, R. (1999). The measuremen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consistency and occasion specificity with laten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models. 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Psychological Methods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, 4, 100-116. Retr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November 19, 2000, from the PsycARTICLES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3:17:07Z</dcterms:created>
  <dc:creator>Lucinda Soltero</dc:creator>
  <dc:description/>
  <dc:language>en-US</dc:language>
  <cp:lastModifiedBy>Metro State</cp:lastModifiedBy>
  <dcterms:modified xsi:type="dcterms:W3CDTF">2010-06-08T16:36:09Z</dcterms:modified>
  <cp:revision>73</cp:revision>
  <dc:subject/>
  <dc:title>Issues in SLA</dc:title>
</cp:coreProperties>
</file>