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3A4-8490-4C94-B998-BF08506B2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9717-D029-45A7-BD82-6E060945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7481-0E2D-4F04-9C9C-5104862F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FB8-3850-4C48-8768-1C8A46D1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AA88-A473-45A8-9B18-34EB5C09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552-FEED-4BD6-812D-45F77E7B6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5D8F-CA48-4537-B640-8D4F2EC9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6047-1691-4105-B5BE-BAAD4564C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63B9-DF5D-4362-9EF1-21F0D3F3A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054-E659-45D3-8212-3D6B12160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3E2-5766-437C-8790-85A6052C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FBD-A71E-4E48-91D1-97FC350A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B50-4B32-4966-AEAC-BEE237F45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ABD-9C70-413E-8F39-D8211D41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4B2-BA4F-42D5-A822-F7816213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3DD-3E3D-414D-9DCA-507C926D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0AD6-E763-4CC5-9484-7956FF9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3D7-E280-41DE-B333-6FE7952C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D5A-8AA7-44C2-AF76-064C7BAC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BA9-0F49-4CDE-AA2C-8AF46C2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118-823C-4DA4-84E2-F205CDD0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658-B5AE-47A9-BF5D-7CB7D4E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649-696F-4675-9AB3-650CF8EE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pa.org/journals/webref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Fewer than 40 words - text enclosed in double quotation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found that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placebo effect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which had been verified in previous studies, disappeared when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[only the first group’s]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 (p.276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She stated,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“T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he ‘placebo effect’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disappeared when behaviors were studied in this manner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3f2b"/>
                </a:solidFill>
                <a:latin typeface="Arial"/>
              </a:rPr>
              <a:t>(Miele, 1993, p.276),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but she did not clarify which behaviors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ore than 40 words - freestanding block (indent about 1/2 in or 5 spaces), double-spa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Quotation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Miele (1993)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found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The “placebo effect,” which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verified in previous studies, disapp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behaviors were studied i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manner. Furthermore, the behaviors 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613f2b"/>
                </a:solidFill>
                <a:latin typeface="Arial"/>
              </a:rPr>
              <a:t>never exhibited again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[italics added],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when reel drugs were administered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...       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3f2b"/>
                </a:solidFill>
                <a:latin typeface="Arial"/>
              </a:rPr>
              <a:t>(p.27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APA style - Quo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Personal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No recoverable data, therefore are not included in the reference 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Quota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According to Ms. Lewis, literacy instruction in her classroom is incidental (personal communication, October 12, 2007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e07c"/>
                </a:solidFill>
                <a:latin typeface="Arial"/>
              </a:rPr>
              <a:t>Referenc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Alphabet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Same  author entries arranged by year (from the earliest to the lat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ne-author entries precede multiple-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Double-spa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ntries should have a hanging 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Journal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Journal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Kernis, M.H., Cornell, D.P., &amp; Harlow, T. (1993). There’s more to self-esteem than  whether it is high or low: The importance of stability of self-esteem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Journal of Personality and Social Psychology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, 65 (4), 1190-120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m Edited Book or Chapter in an Edited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Edited Book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Robinson, D.N. (Ed.). (1992). Social discourse and moral judgment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f989"/>
                </a:solidFill>
                <a:uFillTx/>
                <a:latin typeface="Arial"/>
              </a:rPr>
              <a:t>Chapter in an edited boo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O’Neil, J.M., &amp; Egan, J. (1992). Men’s and women’s gender role journeys: Metaphor for healing, transition, and transformation. In D.N. Robinson (Ed.), </a:t>
            </a:r>
            <a:r>
              <a:rPr b="0" i="1" lang="en-US" sz="2800" spc="-1" strike="noStrike">
                <a:solidFill>
                  <a:srgbClr val="eef989"/>
                </a:solidFill>
                <a:latin typeface="Arial"/>
              </a:rPr>
              <a:t>Social discourse and moral judgment</a:t>
            </a: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 (pp.107-123). San Diego, CA: Academic P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a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ef989"/>
                </a:solidFill>
                <a:uFillTx/>
                <a:latin typeface="Arial"/>
              </a:rPr>
              <a:t>Book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Brown, H. D. (2007). </a:t>
            </a:r>
            <a:r>
              <a:rPr b="0" i="1" lang="en-US" sz="3200" spc="-1" strike="noStrike">
                <a:solidFill>
                  <a:srgbClr val="eef989"/>
                </a:solidFill>
                <a:latin typeface="Arial"/>
              </a:rPr>
              <a:t>Principles of language learning and teaching</a:t>
            </a:r>
            <a:r>
              <a:rPr b="0" lang="en-US" sz="3200" spc="-1" strike="noStrike">
                <a:solidFill>
                  <a:srgbClr val="eef989"/>
                </a:solidFill>
                <a:latin typeface="Arial"/>
              </a:rPr>
              <a:t> (5th ed.). New York: Pearson Long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ite Electronic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f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Electronic sour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Electronic reference formats recommend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American Psychological Association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. (200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October 12). Retrieved October 23, 2000,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pa.org/journals/webref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Eid, M., &amp; Langeheine, R. (1999). The measurement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consistency and occasion specificity with latent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models. </a:t>
            </a:r>
            <a:r>
              <a:rPr b="0" i="1" lang="en-US" sz="2000" spc="-1" strike="noStrike">
                <a:solidFill>
                  <a:srgbClr val="eef989"/>
                </a:solidFill>
                <a:latin typeface="Arial"/>
              </a:rPr>
              <a:t>Psychological Methods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, 4, 100-116. Retr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f989"/>
                </a:solidFill>
                <a:latin typeface="Arial"/>
              </a:rPr>
              <a:t>November 19, 2000, from the PsycARTICLES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23:17:07Z</dcterms:created>
  <dc:creator>Lucinda Soltero</dc:creator>
  <dc:description/>
  <dc:language>en-US</dc:language>
  <cp:lastModifiedBy>Metro State</cp:lastModifiedBy>
  <dcterms:modified xsi:type="dcterms:W3CDTF">2010-06-08T16:36:09Z</dcterms:modified>
  <cp:revision>73</cp:revision>
  <dc:subject/>
  <dc:title>Issues in SLA</dc:title>
</cp:coreProperties>
</file>