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65B9-D25E-486F-AC29-2D3331D5C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36EE-5C14-48D3-AB91-D2D216ECD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FBDB-0B4D-474D-89B4-8713C0942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B522-840F-4339-AE78-EFFED3C0A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AFD1-429E-4842-AC3E-72B48E784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4440-3B1A-44D0-9B66-3E144911A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A35F-F30F-4A65-AFFE-A9B2DA12F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405A-2326-401B-B728-A158E42D0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3A24-BDEA-462C-95F5-F7895887C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9351-55B0-43C1-BA47-8027D447F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538-183A-4052-BB6F-8BC22FCA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AC7-DF76-486B-8D10-B8D4794F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79A-5B75-44C6-8C93-A9994E4A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244-09A3-4B4F-B1E3-22BE1C98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D6B-944E-4D5F-82FE-03D5F4C0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0C0-5114-4DD7-A031-1C1F81F5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80A-CBAB-4A6C-B955-F636831B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6C18-696A-4815-B12A-DC25797D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26C-77B0-4DBC-A502-585FCB20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3B7-1C8C-478D-88A1-2D833EE7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B04-8E21-45FB-8F7E-513FF148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57C4-CDB1-49D2-A1AB-70B021FE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CB5F-1008-4FD7-8E7D-4A2BB9F7B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pa.org/journals/webref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APA style - Quo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Fewer than 40 words - text enclosed in double quotation mar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Quota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Miele (1993)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found that 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“T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he placebo effect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which had been verified in previous studies, disappeared when 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[only the first group’s]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behaviors were studied in this manner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” (p.276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APA style - Quo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Quota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She stated, 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“T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he ‘placebo effect’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disappeared when behaviors were studied in this manner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(Miele, 1993, p.276),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but she did not clarify which behaviors were stu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APA style - Quo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More than 40 words - freestanding block (indent about 1/2 in or 5 spaces), double-spa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Quotation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Miele (1993)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found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The “placebo effect,” which had 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verified in previous studies, disappe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when behaviors were studied in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manner. Furthermore, the behaviors </a:t>
            </a:r>
            <a:r>
              <a:rPr b="0" i="1" lang="en-US" sz="2800" spc="-1" strike="noStrike">
                <a:solidFill>
                  <a:srgbClr val="613f2b"/>
                </a:solidFill>
                <a:latin typeface="Arial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13f2b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613f2b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613f2b"/>
                </a:solidFill>
                <a:latin typeface="Arial"/>
              </a:rPr>
              <a:t>never exhibited again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[italics added],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when reel drugs were administered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...       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(p.27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APA style - Quo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Personal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No recoverable data, therefore are not included in the reference l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Quota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According to Ms. Lewis, literacy instruction in her classroom is incidental (personal communication, October 12, 2007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Referenc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Alphabetiz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Same  author entries arranged by year (from the earliest to the lat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One-author entries precede multiple-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Double-spa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Entries should have a hanging i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Cite a Journal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f989"/>
                </a:solidFill>
                <a:uFillTx/>
                <a:latin typeface="Arial"/>
              </a:rPr>
              <a:t>Journal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Kernis, M.H., Cornell, D.P., &amp; Harlow, T. (1993). There’s more to self-esteem than  whether it is high or low: The importance of stability of self-esteem. </a:t>
            </a:r>
            <a:r>
              <a:rPr b="0" i="1" lang="en-US" sz="3200" spc="-1" strike="noStrike">
                <a:solidFill>
                  <a:srgbClr val="eef989"/>
                </a:solidFill>
                <a:latin typeface="Arial"/>
              </a:rPr>
              <a:t>Journal of Personality and Social Psychology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, 65 (4), 1190-120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ite am Edited Book or Chapter in an Edited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f989"/>
                </a:solidFill>
                <a:uFillTx/>
                <a:latin typeface="Arial"/>
              </a:rPr>
              <a:t>Edited Book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Robinson, D.N. (Ed.). (1992). Social discourse and moral judgment. San Diego, CA: Academic P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f989"/>
                </a:solidFill>
                <a:uFillTx/>
                <a:latin typeface="Arial"/>
              </a:rPr>
              <a:t>Chapter in an edited 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O’Neil, J.M., &amp; Egan, J. (1992). Men’s and women’s gender role journeys: Metaphor for healing, transition, and transformation. In D.N. Robinson (Ed.), </a:t>
            </a:r>
            <a:r>
              <a:rPr b="0" i="1" lang="en-US" sz="2800" spc="-1" strike="noStrike">
                <a:solidFill>
                  <a:srgbClr val="eef989"/>
                </a:solidFill>
                <a:latin typeface="Arial"/>
              </a:rPr>
              <a:t>Social discourse and moral judgment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(pp.107-123). San Diego, CA: Academic P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Cite a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f989"/>
                </a:solidFill>
                <a:uFillTx/>
                <a:latin typeface="Arial"/>
              </a:rPr>
              <a:t>Book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Brown, H. D. (2007). </a:t>
            </a:r>
            <a:r>
              <a:rPr b="0" i="1" lang="en-US" sz="3200" spc="-1" strike="noStrike">
                <a:solidFill>
                  <a:srgbClr val="eef989"/>
                </a:solidFill>
                <a:latin typeface="Arial"/>
              </a:rPr>
              <a:t>Principles of language learning and teaching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(5th ed.). New York: Pearson Long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Cite Electronic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Electronic 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Electronic reference formats recommended by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American Psychological Association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. (200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October 12). Retrieved October 23, 2000,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pa.org/journals/webref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Eid, M., &amp; Langeheine, R. (1999). The measuremen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consistency and occasion specificity with laten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models. </a:t>
            </a: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Psychological Methods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, 4, 100-116. Retr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November 19, 2000, from the PsycARTICLES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23:17:07Z</dcterms:created>
  <dc:creator>Lucinda Soltero</dc:creator>
  <dc:description/>
  <dc:language>en-US</dc:language>
  <cp:lastModifiedBy>Metro State</cp:lastModifiedBy>
  <dcterms:modified xsi:type="dcterms:W3CDTF">2010-06-08T16:36:09Z</dcterms:modified>
  <cp:revision>73</cp:revision>
  <dc:subject/>
  <dc:title>Issues in SLA</dc:title>
</cp:coreProperties>
</file>